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A73F-318D-47AE-AABF-1353935E61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udents that the numbe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irrational and its value is approximately 2.718. The functio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1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l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ill be discussed later in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DEE-B45C-4DE4-B1F4-59AF24CF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558-4E6A-4290-B228-0C79E2F0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466-C4E6-4B0C-A8BE-9C61579B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874-96A5-4316-91FA-6A160EFD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883-26F1-488B-AA14-7649842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C92-08C7-47C8-91E6-F45A4CC8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43C-F1AB-48D4-B565-1CD38914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4F0-3A25-48E7-BA0A-5C69E62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3EA-174A-4DCF-9C22-5318CCDF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FF7-3F82-4265-82CD-7E430EE4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60D-2654-44A6-84E8-BDF7E11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35B-9E66-46BA-84C9-8DD821C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3399-DF6D-4AE7-97AE-2581B5B5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1916280"/>
            <a:ext cx="0" cy="3889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ing expon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2060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isit Unit 1 Functions and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708280"/>
            <a:ext cx="439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GB" sz="18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i="1" lang="en-GB" sz="1800" spc="-1" strike="noStrike" baseline="30000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has an inver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lle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573360"/>
            <a:ext cx="439272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i="1" lang="en-GB" sz="2400" spc="-1" strike="noStrike" baseline="30000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log 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076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the for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4508640"/>
            <a:ext cx="439272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en-GB" sz="2400" spc="-1" strike="noStrike" baseline="30000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log 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35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Logarithms to the base 10 and to the base </a:t>
            </a:r>
            <a:r>
              <a:rPr b="0" i="1" lang="en-US" sz="2800" spc="-1" strike="noStrike">
                <a:solidFill>
                  <a:srgbClr val="cc00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927000"/>
            <a:ext cx="85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lthough the base of a logarithm can be any positive number, there are only two bases that are commonl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2720" y="181116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s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33028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Logarithms to the ba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200" y="2851200"/>
            <a:ext cx="40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Logarithms to the base </a:t>
            </a:r>
            <a:r>
              <a:rPr b="1" i="1" lang="en-US" sz="2400" spc="-1" strike="noStrike">
                <a:solidFill>
                  <a:srgbClr val="01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70320"/>
            <a:ext cx="86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ogarithms to the base 10 are useful because our number system is based on powers of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2000" y="4255920"/>
            <a:ext cx="7976160" cy="459720"/>
            <a:chOff x="252000" y="4255920"/>
            <a:chExt cx="7976160" cy="459720"/>
          </a:xfrm>
        </p:grpSpPr>
        <p:sp>
          <p:nvSpPr>
            <p:cNvPr id="66" name=""/>
            <p:cNvSpPr/>
            <p:nvPr/>
          </p:nvSpPr>
          <p:spPr>
            <a:xfrm>
              <a:off x="4716360" y="4268520"/>
              <a:ext cx="647640" cy="431640"/>
            </a:xfrm>
            <a:prstGeom prst="roundRect">
              <a:avLst>
                <a:gd name="adj" fmla="val 16667"/>
              </a:avLst>
            </a:prstGeom>
            <a:solidFill>
              <a:srgbClr val="e2e7ee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000" y="4255920"/>
              <a:ext cx="79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hey can be found by using the   log   key on a calcul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0920" y="4775040"/>
            <a:ext cx="86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Logarithms to the base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called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napieria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or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natural logarithm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nd have many applications in maths and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0920" y="5661000"/>
            <a:ext cx="7977600" cy="459720"/>
            <a:chOff x="250920" y="5661000"/>
            <a:chExt cx="7977600" cy="459720"/>
          </a:xfrm>
        </p:grpSpPr>
        <p:sp>
          <p:nvSpPr>
            <p:cNvPr id="70" name=""/>
            <p:cNvSpPr/>
            <p:nvPr/>
          </p:nvSpPr>
          <p:spPr>
            <a:xfrm>
              <a:off x="4716360" y="5673600"/>
              <a:ext cx="647640" cy="431640"/>
            </a:xfrm>
            <a:prstGeom prst="roundRect">
              <a:avLst>
                <a:gd name="adj" fmla="val 16667"/>
              </a:avLst>
            </a:prstGeom>
            <a:solidFill>
              <a:srgbClr val="e2e7ee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0920" y="5661000"/>
              <a:ext cx="797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They can be found by using the    ln    key on a calcul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5960" y="21621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ou have 2 logarithm  buttons on your calcu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857240" y="3309840"/>
            <a:ext cx="343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ich stands for lo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857240" y="4605480"/>
            <a:ext cx="33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ich stands for lo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038240" y="3309840"/>
            <a:ext cx="60948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7672320" y="3067200"/>
            <a:ext cx="609480" cy="838080"/>
            <a:chOff x="7672320" y="3067200"/>
            <a:chExt cx="609480" cy="838080"/>
          </a:xfrm>
        </p:grpSpPr>
        <p:sp>
          <p:nvSpPr>
            <p:cNvPr id="79" name="AutoShape 9"/>
            <p:cNvSpPr/>
            <p:nvPr/>
          </p:nvSpPr>
          <p:spPr>
            <a:xfrm>
              <a:off x="7672320" y="3448080"/>
              <a:ext cx="609480" cy="457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Object 3"/>
            <p:cNvGraphicFramePr/>
            <p:nvPr/>
          </p:nvGraphicFramePr>
          <p:xfrm>
            <a:off x="7750080" y="3067200"/>
            <a:ext cx="45396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50080" y="3067200"/>
                      <a:ext cx="453960" cy="380880"/>
                    </a:xfrm>
                    <a:prstGeom prst="rect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82" name="AutoShape 13"/>
          <p:cNvSpPr/>
          <p:nvPr/>
        </p:nvSpPr>
        <p:spPr>
          <a:xfrm>
            <a:off x="1038240" y="4600440"/>
            <a:ext cx="60948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7738920" y="4424400"/>
            <a:ext cx="609480" cy="837720"/>
            <a:chOff x="7738920" y="4424400"/>
            <a:chExt cx="609480" cy="837720"/>
          </a:xfrm>
        </p:grpSpPr>
        <p:graphicFrame>
          <p:nvGraphicFramePr>
            <p:cNvPr id="84" name="Object 2"/>
            <p:cNvGraphicFramePr/>
            <p:nvPr/>
          </p:nvGraphicFramePr>
          <p:xfrm>
            <a:off x="7889760" y="4424400"/>
            <a:ext cx="30924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" name="Object 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89760" y="4424400"/>
                      <a:ext cx="309240" cy="380880"/>
                    </a:xfrm>
                    <a:prstGeom prst="rect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AutoShape 14"/>
            <p:cNvSpPr/>
            <p:nvPr/>
          </p:nvSpPr>
          <p:spPr>
            <a:xfrm>
              <a:off x="7738920" y="4805280"/>
              <a:ext cx="609480" cy="4568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7"/>
          <p:cNvSpPr/>
          <p:nvPr/>
        </p:nvSpPr>
        <p:spPr>
          <a:xfrm>
            <a:off x="1038240" y="586728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finding 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 on your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7920000" y="57690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360" y="549360"/>
            <a:ext cx="383544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Using your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205240" y="3309840"/>
            <a:ext cx="24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its in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181480" y="4605480"/>
            <a:ext cx="24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its in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s of  loga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ing expon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765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ing logarithms to bas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6300720" y="765000"/>
            <a:ext cx="60984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13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2060640"/>
            <a:ext cx="2303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ve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9 to 2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565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ake logarithms to base 10 of both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284640"/>
            <a:ext cx="2303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6</a:t>
            </a:r>
            <a:r>
              <a:rPr b="0" lang="en-US" sz="1800" spc="-1" strike="noStrike" baseline="40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789360"/>
            <a:ext cx="2303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6 =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221000"/>
            <a:ext cx="2303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81360"/>
            <a:ext cx="2303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157720"/>
            <a:ext cx="2303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6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5734080"/>
            <a:ext cx="2303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Ans      x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2771640" y="4292640"/>
            <a:ext cx="60984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ing expon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700280"/>
            <a:ext cx="4176720" cy="105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pulation of 5 million increased at an annual  rate of 8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 years its value is giv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708280"/>
            <a:ext cx="4176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t)  =  5 x 1.0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68640"/>
            <a:ext cx="4176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 Calculate the population after 7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716280"/>
            <a:ext cx="4176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 After how many years will the population exceed 12 mill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797360"/>
            <a:ext cx="41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t)  =  5 x 1.0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229360"/>
            <a:ext cx="41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t)  =  8.56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661000"/>
            <a:ext cx="41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(t)  =  9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177336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=  5 x 1.0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213372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=      1.0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242100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3068640"/>
            <a:ext cx="33843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.4    = t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3645000"/>
            <a:ext cx="33843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.4    =  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4005360"/>
            <a:ext cx="33843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8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400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300720" y="765000"/>
            <a:ext cx="609840" cy="457200"/>
          </a:xfrm>
          <a:prstGeom prst="flowChartAlternateProcess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765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ing logarithms to bas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65300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735    =  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157720"/>
            <a:ext cx="33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2 years    =  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37000"/>
            <a:ext cx="4176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773360"/>
            <a:ext cx="8424720" cy="3010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44  Ex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for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ing expon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2-03T22:02:09Z</dcterms:modified>
  <cp:revision>22</cp:revision>
  <dc:subject/>
  <dc:title>Slide 1</dc:title>
</cp:coreProperties>
</file>